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0B3-1902-44D3-8563-EA4FDBE0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4D8-7A52-4C5C-9ED3-712CC53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811-070A-42B3-BA1B-ACD7C8FB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DDF-0E87-4CD4-A01E-31B88E69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D89D-EF8C-45AF-94E0-56B605E1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FAE-701E-4F6D-A5EA-A62C338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C586-DACC-405A-9AA4-3E5E5586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40A3-C173-494C-B7AC-4D7E805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4C99-61D6-43D7-98B8-802A8292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BABA-FD11-41BE-94B9-01EE824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0F20-CFB8-412E-A259-A98DFA99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98E-449A-4A27-BE16-4A2F1D7A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7A2A-FA59-471B-8B10-FC23DC5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DFEB-17E1-4DCB-A7D3-C9754F8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95FE-A67A-481D-9796-3D9A6A0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CCCE-7F61-4F40-81B8-E188FB2D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02D-5297-4F5A-87C8-89B41B2D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4D7-28D5-485F-A0C9-7B7949E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B50-13E7-4B51-A367-6E47E9A7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355-C189-4E17-BCEE-64040B8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DD5-3F27-4B66-A49F-94AE8CB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AE7-1C93-4397-9A89-87E1FFC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7A3-8482-45BA-8828-D6413F0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AB0-5616-4379-A27E-6FACA5E3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A4243-6FEA-4E64-AE7C-207F001E66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C4566-E28B-4554-8DE6-8B3978961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ssia to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 Marcus Johnson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t F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munism to a Free Enterprise Syst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ommunism, the govern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ed the economy of Russia. Government officials decided how much of something farmers should gr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ll of communism had turned Russia’s economy upside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ssian government adopted a market economy or free enterprise syst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48320" y="2467080"/>
            <a:ext cx="4038480" cy="3141720"/>
            <a:chOff x="4648320" y="2467080"/>
            <a:chExt cx="4038480" cy="31417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648320" y="2467080"/>
              <a:ext cx="4038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48320" y="2467080"/>
              <a:ext cx="4038480" cy="31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s and cons of government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body had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had no freedom on what job they d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 had too much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free enterprise 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940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People started and ran businesses with little or no government interru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940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They may become unempl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07Z</dcterms:created>
  <dc:creator> </dc:creator>
  <dc:description/>
  <dc:language>en-US</dc:language>
  <cp:lastModifiedBy> </cp:lastModifiedBy>
  <dcterms:modified xsi:type="dcterms:W3CDTF">2010-12-15T15:27:11Z</dcterms:modified>
  <cp:revision>3</cp:revision>
  <dc:subject/>
  <dc:title>Russia to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